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680700" cy="7556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C20A-2214-4BC9-8D52-D5616FC46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908532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1360" y="4554720"/>
            <a:ext cx="908532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BFD7-5258-46F6-AFE0-DEF15AD9F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688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1360" y="45547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56880" y="45547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7B8F-CCC0-4CCF-AB46-13723F436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3240" y="21841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5480" y="21841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1360" y="45547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3240" y="45547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5480" y="4554720"/>
            <a:ext cx="292536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6167-7664-4282-82C6-B9BEB50F72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1360" y="2184120"/>
            <a:ext cx="908532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48E0-5158-43C0-8C39-629931D4C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908532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B24D-19FC-4BFC-A6BD-028B24C45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443340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56880" y="2184120"/>
            <a:ext cx="443340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1F62-F6BC-439E-9077-C95C05EBE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D9A8-1E5E-4FA0-A969-6150FE2C1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53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D2C7-DCC7-49DC-B7E2-9010C2491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6880" y="2184120"/>
            <a:ext cx="443340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1360" y="45547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17E2-05D6-4838-B8B3-1D9069C71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443340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688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56880" y="45547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5737-D85B-488E-A9AD-AD2796558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136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6880" y="2184120"/>
            <a:ext cx="443340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1360" y="4554720"/>
            <a:ext cx="9085320" cy="2164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030D-04BE-4574-8997-A9AF9744E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5320" cy="1260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4120"/>
            <a:ext cx="9085320" cy="453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>
            <a:normAutofit fontScale="87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005280" indent="-255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315960" indent="-2408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4210920" indent="-285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5438520" indent="-3623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5438520" indent="-3623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5438520" indent="-3623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542160" y="6891480"/>
            <a:ext cx="344520" cy="325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52200" bIns="52200" anchor="t" anchorCtr="1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pl-PL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CCEEBF6-858A-4825-9F26-5859C23346C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gh.edu.pl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1236600" y="246528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Arial"/>
              </a:rPr>
              <a:t>Nauczanie online i e-learnig w A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Arial"/>
              </a:rPr>
              <a:t>strategia i dział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7509600" y="608184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808080"/>
                </a:solidFill>
                <a:latin typeface="Arial"/>
              </a:rPr>
              <a:t>Zbigniew Kąkol, Jan Kusi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435400" y="434340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a200"/>
                </a:solidFill>
                <a:latin typeface="FagoNoBoldCE-Caps"/>
              </a:rPr>
              <a:t>Akademia Górniczo-Hutnicza</a:t>
            </a:r>
            <a:r>
              <a:rPr b="0" lang="pl-PL" sz="1200" spc="-1" strike="noStrike">
                <a:solidFill>
                  <a:srgbClr val="000000"/>
                </a:solidFill>
                <a:latin typeface="FagoNoBoldCE-Caps"/>
              </a:rPr>
              <a:t> </a:t>
            </a:r>
            <a:r>
              <a:rPr b="0" lang="pl-PL" sz="1200" spc="-1" strike="noStrike">
                <a:solidFill>
                  <a:srgbClr val="808080"/>
                </a:solidFill>
                <a:latin typeface="FagoNoBoldCE-Caps"/>
              </a:rPr>
              <a:t>im. Stanisława Staszica w Krakow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FagoNoBoldCE-Caps"/>
              </a:rPr>
              <a:t>AGH University of Science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1729440" y="977760"/>
            <a:ext cx="27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Działania w A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49760" y="4716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 Light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28600" y="34974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Repozytorium otwar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zasobów edukacyj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426480" y="4716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 Light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4"/>
          <p:cNvCxnSpPr/>
          <p:nvPr/>
        </p:nvCxnSpPr>
        <p:spPr>
          <a:xfrm>
            <a:off x="304560" y="4564080"/>
            <a:ext cx="84589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TextBox 8"/>
          <p:cNvSpPr/>
          <p:nvPr/>
        </p:nvSpPr>
        <p:spPr>
          <a:xfrm>
            <a:off x="3505320" y="3497400"/>
            <a:ext cx="25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Otwarte e-podręczn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7089120" y="47163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 Light"/>
              </a:rPr>
              <a:t>201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6588000" y="3505320"/>
            <a:ext cx="25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MOO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openagh_resources.png"/>
          <p:cNvPicPr/>
          <p:nvPr/>
        </p:nvPicPr>
        <p:blipFill>
          <a:blip r:embed="rId1"/>
          <a:stretch/>
        </p:blipFill>
        <p:spPr>
          <a:xfrm>
            <a:off x="382680" y="2554200"/>
            <a:ext cx="2143080" cy="6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openagh_moocs.png"/>
          <p:cNvPicPr/>
          <p:nvPr/>
        </p:nvPicPr>
        <p:blipFill>
          <a:blip r:embed="rId2"/>
          <a:stretch/>
        </p:blipFill>
        <p:spPr>
          <a:xfrm>
            <a:off x="6856560" y="2536920"/>
            <a:ext cx="2149200" cy="69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openagh_etextbooks.png"/>
          <p:cNvPicPr/>
          <p:nvPr/>
        </p:nvPicPr>
        <p:blipFill>
          <a:blip r:embed="rId3"/>
          <a:stretch/>
        </p:blipFill>
        <p:spPr>
          <a:xfrm>
            <a:off x="3657600" y="2536920"/>
            <a:ext cx="2022480" cy="65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729440" y="977760"/>
            <a:ext cx="27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Działania w A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rzut ekranu 2014-04-07 (godz. 15.56.03).png"/>
          <p:cNvPicPr/>
          <p:nvPr/>
        </p:nvPicPr>
        <p:blipFill>
          <a:blip r:embed="rId1"/>
          <a:stretch/>
        </p:blipFill>
        <p:spPr>
          <a:xfrm>
            <a:off x="6172200" y="3641760"/>
            <a:ext cx="2971800" cy="1701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5183280" y="5241960"/>
            <a:ext cx="41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Otwarte zasoby (moduł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(np. fizyka i matematy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Zrzut ekranu 2014-04-07 (godz. 15.59.37).png"/>
          <p:cNvPicPr/>
          <p:nvPr/>
        </p:nvPicPr>
        <p:blipFill>
          <a:blip r:embed="rId2"/>
          <a:stretch/>
        </p:blipFill>
        <p:spPr>
          <a:xfrm>
            <a:off x="1676520" y="3718080"/>
            <a:ext cx="1206360" cy="1396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8"/>
          <p:cNvSpPr/>
          <p:nvPr/>
        </p:nvSpPr>
        <p:spPr>
          <a:xfrm>
            <a:off x="865080" y="5165640"/>
            <a:ext cx="389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Otwarta plat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Helvetica Neue Light"/>
                <a:ea typeface="MS PGothic"/>
              </a:rPr>
              <a:t>(tworzenie, edytowanie, uży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Zrzut ekranu 2014-04-07 (godz. 16.00.50).png"/>
          <p:cNvPicPr/>
          <p:nvPr/>
        </p:nvPicPr>
        <p:blipFill>
          <a:blip r:embed="rId3"/>
          <a:stretch/>
        </p:blipFill>
        <p:spPr>
          <a:xfrm>
            <a:off x="2971800" y="3870360"/>
            <a:ext cx="1308240" cy="120636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4"/>
          <p:cNvSpPr/>
          <p:nvPr/>
        </p:nvSpPr>
        <p:spPr>
          <a:xfrm flipH="1">
            <a:off x="5486400" y="34894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7"/>
          <p:cNvSpPr/>
          <p:nvPr/>
        </p:nvSpPr>
        <p:spPr>
          <a:xfrm flipH="1">
            <a:off x="1981080" y="34894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7"/>
          <p:cNvSpPr/>
          <p:nvPr/>
        </p:nvSpPr>
        <p:spPr>
          <a:xfrm flipH="1">
            <a:off x="5141520" y="3033720"/>
            <a:ext cx="3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openagh_etextbooks.png"/>
          <p:cNvPicPr/>
          <p:nvPr/>
        </p:nvPicPr>
        <p:blipFill>
          <a:blip r:embed="rId4"/>
          <a:stretch/>
        </p:blipFill>
        <p:spPr>
          <a:xfrm>
            <a:off x="3735360" y="1870200"/>
            <a:ext cx="2813040" cy="90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729440" y="977760"/>
            <a:ext cx="27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Działania w A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611520" y="2743200"/>
            <a:ext cx="3235320" cy="1131840"/>
          </a:xfrm>
          <a:prstGeom prst="rect">
            <a:avLst/>
          </a:prstGeom>
          <a:ln w="0">
            <a:noFill/>
          </a:ln>
        </p:spPr>
      </p:pic>
      <p:sp>
        <p:nvSpPr>
          <p:cNvPr id="145" name="PoleTekstowe 1"/>
          <p:cNvSpPr/>
          <p:nvPr/>
        </p:nvSpPr>
        <p:spPr>
          <a:xfrm>
            <a:off x="1189080" y="4525920"/>
            <a:ext cx="807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2060"/>
                </a:solidFill>
                <a:latin typeface="Calibri"/>
              </a:rPr>
              <a:t>Creative Commons 3.0 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2060"/>
                </a:solidFill>
                <a:latin typeface="Calibri"/>
              </a:rPr>
              <a:t>uznanie autorstwa – użycie niekomercyj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2060"/>
                </a:solidFill>
                <a:latin typeface="Calibri"/>
              </a:rPr>
              <a:t>- na tych samych warunk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236600" y="246528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35353"/>
                </a:solidFill>
                <a:latin typeface="Arial"/>
              </a:rPr>
              <a:t>Nauczanie online i e-learnig w A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35353"/>
                </a:solidFill>
                <a:latin typeface="Arial"/>
              </a:rPr>
              <a:t>strategia i dział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7509600" y="608184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808080"/>
                </a:solidFill>
                <a:latin typeface="Arial"/>
              </a:rPr>
              <a:t>Zbigniew Kąkol, Jan Kusi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435400" y="434340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a200"/>
                </a:solidFill>
                <a:latin typeface="FagoNoBoldCE-Caps"/>
              </a:rPr>
              <a:t>Akademia Górniczo-Hutnicza</a:t>
            </a:r>
            <a:r>
              <a:rPr b="0" lang="pl-PL" sz="1200" spc="-1" strike="noStrike">
                <a:solidFill>
                  <a:srgbClr val="000000"/>
                </a:solidFill>
                <a:latin typeface="FagoNoBoldCE-Caps"/>
              </a:rPr>
              <a:t> </a:t>
            </a:r>
            <a:r>
              <a:rPr b="0" lang="pl-PL" sz="1200" spc="-1" strike="noStrike">
                <a:solidFill>
                  <a:srgbClr val="808080"/>
                </a:solidFill>
                <a:latin typeface="FagoNoBoldCE-Caps"/>
              </a:rPr>
              <a:t>im. Stanisława Staszica w Krakow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FagoNoBoldCE-Caps"/>
              </a:rPr>
              <a:t>AGH University of Science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rostokąt 2">
            <a:hlinkClick r:id="rId1"/>
          </p:cNvPr>
          <p:cNvSpPr/>
          <p:nvPr/>
        </p:nvSpPr>
        <p:spPr>
          <a:xfrm>
            <a:off x="371520" y="701820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15880" y="2482920"/>
            <a:ext cx="8064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słaba infrastruk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brak kadry nauczając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brak  uregulowań 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zmiany demograficzne + zmiany technolo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047320" y="977760"/>
            <a:ext cx="523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</a:t>
            </a:r>
            <a:r>
              <a:rPr b="1" lang="en-US" sz="2500" spc="-1" strike="noStrike">
                <a:solidFill>
                  <a:srgbClr val="1f4e79"/>
                </a:solidFill>
                <a:latin typeface="Verdana"/>
              </a:rPr>
              <a:t> lat transformacji 1989 – 20</a:t>
            </a: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19</a:t>
            </a:r>
            <a:r>
              <a:rPr b="1" lang="en-US" sz="2500" spc="-1" strike="noStrike">
                <a:solidFill>
                  <a:srgbClr val="1f4e79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az 2" descr=""/>
          <p:cNvPicPr/>
          <p:nvPr/>
        </p:nvPicPr>
        <p:blipFill>
          <a:blip r:embed="rId2"/>
          <a:stretch/>
        </p:blipFill>
        <p:spPr>
          <a:xfrm>
            <a:off x="8667720" y="2316240"/>
            <a:ext cx="1793880" cy="1430280"/>
          </a:xfrm>
          <a:prstGeom prst="rect">
            <a:avLst/>
          </a:prstGeom>
          <a:ln w="0">
            <a:noFill/>
          </a:ln>
        </p:spPr>
      </p:pic>
      <p:pic>
        <p:nvPicPr>
          <p:cNvPr id="46" name="Obraz 3" descr=""/>
          <p:cNvPicPr/>
          <p:nvPr/>
        </p:nvPicPr>
        <p:blipFill>
          <a:blip r:embed="rId3"/>
          <a:stretch/>
        </p:blipFill>
        <p:spPr>
          <a:xfrm>
            <a:off x="8724960" y="5380200"/>
            <a:ext cx="1422360" cy="1433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2"/>
          <p:cNvSpPr/>
          <p:nvPr/>
        </p:nvSpPr>
        <p:spPr>
          <a:xfrm>
            <a:off x="371520" y="701820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047320" y="977760"/>
            <a:ext cx="523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</a:t>
            </a:r>
            <a:r>
              <a:rPr b="1" lang="en-US" sz="2500" spc="-1" strike="noStrike">
                <a:solidFill>
                  <a:srgbClr val="1f4e79"/>
                </a:solidFill>
                <a:latin typeface="Verdana"/>
              </a:rPr>
              <a:t> lat transformacji 1989 – 201</a:t>
            </a: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9</a:t>
            </a:r>
            <a:r>
              <a:rPr b="1" lang="en-US" sz="2500" spc="-1" strike="noStrike">
                <a:solidFill>
                  <a:srgbClr val="1f4e79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11280" y="2897280"/>
          <a:ext cx="922320" cy="123804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440160" y="2897280"/>
          <a:ext cx="922320" cy="125712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9000" y="2895480"/>
          <a:ext cx="1487520" cy="1238400"/>
        </p:xfrm>
        <a:graphic>
          <a:graphicData uri="http://schemas.openxmlformats.org/drawingml/2006/table">
            <a:tbl>
              <a:tblPr/>
              <a:tblGrid>
                <a:gridCol w="1487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ywat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ństw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sp>
        <p:nvSpPr>
          <p:cNvPr id="52" name="TextBox 6"/>
          <p:cNvSpPr/>
          <p:nvPr/>
        </p:nvSpPr>
        <p:spPr>
          <a:xfrm>
            <a:off x="1493640" y="20048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iczba uniwersyte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686320" y="252900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491280" y="252900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50960" y="5938920"/>
          <a:ext cx="1339920" cy="43020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 230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1071720" y="4940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iczba studen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1478160" y="55389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773440" y="5570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35080" y="5938920"/>
          <a:ext cx="1339920" cy="43020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0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60" name="TextBox 15"/>
          <p:cNvSpPr/>
          <p:nvPr/>
        </p:nvSpPr>
        <p:spPr>
          <a:xfrm>
            <a:off x="5385240" y="351144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zrost 3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385240" y="59086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zrost 3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1" descr=""/>
          <p:cNvPicPr/>
          <p:nvPr/>
        </p:nvPicPr>
        <p:blipFill>
          <a:blip r:embed="rId1"/>
          <a:stretch/>
        </p:blipFill>
        <p:spPr>
          <a:xfrm>
            <a:off x="7104240" y="3927600"/>
            <a:ext cx="1711080" cy="17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047320" y="977760"/>
            <a:ext cx="522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 lat transformacji 1989 – 2019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6120" y="3043080"/>
          <a:ext cx="922320" cy="123840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13200" y="304308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7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sp>
        <p:nvSpPr>
          <p:cNvPr id="67" name="TextBox 3"/>
          <p:cNvSpPr/>
          <p:nvPr/>
        </p:nvSpPr>
        <p:spPr>
          <a:xfrm>
            <a:off x="199116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06576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704160" y="18414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KB na mieszkańca (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94056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23760" y="3030480"/>
          <a:ext cx="922680" cy="1249560"/>
        </p:xfrm>
        <a:graphic>
          <a:graphicData uri="http://schemas.openxmlformats.org/drawingml/2006/table">
            <a:tbl>
              <a:tblPr/>
              <a:tblGrid>
                <a:gridCol w="92268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 śred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935520" y="304308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9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pSp>
        <p:nvGrpSpPr>
          <p:cNvPr id="73" name="Grupa 4"/>
          <p:cNvGrpSpPr/>
          <p:nvPr/>
        </p:nvGrpSpPr>
        <p:grpSpPr>
          <a:xfrm>
            <a:off x="3613320" y="4510080"/>
            <a:ext cx="796320" cy="1404360"/>
            <a:chOff x="3613320" y="4510080"/>
            <a:chExt cx="796320" cy="1404360"/>
          </a:xfrm>
        </p:grpSpPr>
        <p:pic>
          <p:nvPicPr>
            <p:cNvPr id="74" name="Picture 10" descr="flag_yellow_low.jpg"/>
            <p:cNvPicPr/>
            <p:nvPr/>
          </p:nvPicPr>
          <p:blipFill>
            <a:blip r:embed="rId1"/>
            <a:stretch/>
          </p:blipFill>
          <p:spPr>
            <a:xfrm flipH="1">
              <a:off x="3648960" y="5067360"/>
              <a:ext cx="56988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11"/>
            <p:cNvSpPr/>
            <p:nvPr/>
          </p:nvSpPr>
          <p:spPr>
            <a:xfrm>
              <a:off x="3613320" y="5454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2060"/>
                  </a:solidFill>
                  <a:latin typeface="Calibri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załka w górę 31"/>
            <p:cNvSpPr/>
            <p:nvPr/>
          </p:nvSpPr>
          <p:spPr>
            <a:xfrm>
              <a:off x="3882960" y="4510080"/>
              <a:ext cx="99720" cy="439560"/>
            </a:xfrm>
            <a:prstGeom prst="upArrow">
              <a:avLst>
                <a:gd name="adj1" fmla="val 50000"/>
                <a:gd name="adj2" fmla="val 50161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6"/>
          <p:cNvSpPr/>
          <p:nvPr/>
        </p:nvSpPr>
        <p:spPr>
          <a:xfrm>
            <a:off x="486288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857840" y="304308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9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pic>
        <p:nvPicPr>
          <p:cNvPr id="79" name="Obraz 5" descr=""/>
          <p:cNvPicPr/>
          <p:nvPr/>
        </p:nvPicPr>
        <p:blipFill>
          <a:blip r:embed="rId2"/>
          <a:stretch/>
        </p:blipFill>
        <p:spPr>
          <a:xfrm>
            <a:off x="7021440" y="4692600"/>
            <a:ext cx="212256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047320" y="977760"/>
            <a:ext cx="522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 lat transformacji 1989 – 2019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86120" y="3043080"/>
          <a:ext cx="922320" cy="60984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13200" y="3043080"/>
          <a:ext cx="922320" cy="62892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84" name="TextBox 3"/>
          <p:cNvSpPr/>
          <p:nvPr/>
        </p:nvSpPr>
        <p:spPr>
          <a:xfrm>
            <a:off x="191412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98872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940320" y="1789200"/>
            <a:ext cx="60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skaźnik skolaryzacji brutto dla szkół wyżs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863520" y="2673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23760" y="3030480"/>
          <a:ext cx="922680" cy="1249560"/>
        </p:xfrm>
        <a:graphic>
          <a:graphicData uri="http://schemas.openxmlformats.org/drawingml/2006/table">
            <a:tbl>
              <a:tblPr/>
              <a:tblGrid>
                <a:gridCol w="92268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 śred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935520" y="304308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grpSp>
        <p:nvGrpSpPr>
          <p:cNvPr id="90" name="Grupa 12"/>
          <p:cNvGrpSpPr/>
          <p:nvPr/>
        </p:nvGrpSpPr>
        <p:grpSpPr>
          <a:xfrm>
            <a:off x="3536640" y="4510080"/>
            <a:ext cx="796320" cy="1404360"/>
            <a:chOff x="3536640" y="4510080"/>
            <a:chExt cx="796320" cy="1404360"/>
          </a:xfrm>
        </p:grpSpPr>
        <p:pic>
          <p:nvPicPr>
            <p:cNvPr id="91" name="Picture 10" descr="flag_yellow_low.jpg"/>
            <p:cNvPicPr/>
            <p:nvPr/>
          </p:nvPicPr>
          <p:blipFill>
            <a:blip r:embed="rId1"/>
            <a:stretch/>
          </p:blipFill>
          <p:spPr>
            <a:xfrm flipH="1">
              <a:off x="3649320" y="5067000"/>
              <a:ext cx="5702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11"/>
            <p:cNvSpPr/>
            <p:nvPr/>
          </p:nvSpPr>
          <p:spPr>
            <a:xfrm>
              <a:off x="3536640" y="5454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Calibri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załka w górę 44"/>
            <p:cNvSpPr/>
            <p:nvPr/>
          </p:nvSpPr>
          <p:spPr>
            <a:xfrm>
              <a:off x="3882960" y="4510080"/>
              <a:ext cx="100080" cy="439560"/>
            </a:xfrm>
            <a:prstGeom prst="upArrow">
              <a:avLst>
                <a:gd name="adj1" fmla="val 50000"/>
                <a:gd name="adj2" fmla="val 4996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6"/>
          <p:cNvSpPr/>
          <p:nvPr/>
        </p:nvSpPr>
        <p:spPr>
          <a:xfrm>
            <a:off x="4862520" y="267336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201</a:t>
            </a: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857840" y="304308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  <p:pic>
        <p:nvPicPr>
          <p:cNvPr id="96" name="Obraz 3" descr=""/>
          <p:cNvPicPr/>
          <p:nvPr/>
        </p:nvPicPr>
        <p:blipFill>
          <a:blip r:embed="rId2"/>
          <a:stretch/>
        </p:blipFill>
        <p:spPr>
          <a:xfrm>
            <a:off x="7156440" y="4965840"/>
            <a:ext cx="1787400" cy="1347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5779440" y="266868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201</a:t>
            </a: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73680" y="3038400"/>
          <a:ext cx="922320" cy="1257480"/>
        </p:xfrm>
        <a:graphic>
          <a:graphicData uri="http://schemas.openxmlformats.org/drawingml/2006/table">
            <a:tbl>
              <a:tblPr/>
              <a:tblGrid>
                <a:gridCol w="9223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5723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137680" y="977760"/>
            <a:ext cx="63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 lat transformacji 1989 – 2019 </a:t>
            </a:r>
            <a:r>
              <a:rPr b="1" lang="pl-PL" sz="2500" spc="-1" strike="noStrike">
                <a:solidFill>
                  <a:srgbClr val="c00000"/>
                </a:solidFill>
                <a:latin typeface="Verdana"/>
              </a:rPr>
              <a:t>w AGH</a:t>
            </a: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2"/>
          <p:cNvSpPr/>
          <p:nvPr/>
        </p:nvSpPr>
        <p:spPr>
          <a:xfrm>
            <a:off x="291960" y="2570040"/>
            <a:ext cx="8936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Najistotniejsze czynniki w kształceniu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inżynierów w A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Kształcenie oparte na nauce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(research driven education)</a:t>
            </a: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24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(2015 - 640 projektów naukowych)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Nie można zapewnić wysokiej jakości kształcenia bez wysokiej jakości badań nauk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Współpraca z przemysłem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(2015 – 840 wspólnych projektów)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usimy zapewnić wysoką jakość i użyteczność wiedzy zdobytej w A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raz 1" descr=""/>
          <p:cNvPicPr/>
          <p:nvPr/>
        </p:nvPicPr>
        <p:blipFill>
          <a:blip r:embed="rId1"/>
          <a:stretch/>
        </p:blipFill>
        <p:spPr>
          <a:xfrm>
            <a:off x="7861320" y="1978200"/>
            <a:ext cx="1522440" cy="1211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137680" y="977760"/>
            <a:ext cx="63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30 lat transformacji 1989 – 2019 </a:t>
            </a:r>
            <a:r>
              <a:rPr b="1" lang="pl-PL" sz="2500" spc="-1" strike="noStrike">
                <a:solidFill>
                  <a:srgbClr val="c00000"/>
                </a:solidFill>
                <a:latin typeface="Verdana"/>
              </a:rPr>
              <a:t>w AGH</a:t>
            </a: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9080" y="1344240"/>
            <a:ext cx="958824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39060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Font typeface="Verdana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Verdana"/>
              </a:rPr>
              <a:t>16 wydziałów, 57 kierunków studiów, 23 000 studentów, 175 000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6" descr=""/>
          <p:cNvPicPr/>
          <p:nvPr/>
        </p:nvPicPr>
        <p:blipFill>
          <a:blip r:embed="rId1"/>
          <a:stretch/>
        </p:blipFill>
        <p:spPr>
          <a:xfrm>
            <a:off x="351000" y="1955880"/>
            <a:ext cx="3076560" cy="3741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486320" y="2286000"/>
            <a:ext cx="39495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Inżynieria akustycz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Inżynieria Biomedy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Ceram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Odlewnic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Geofizy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Mechatro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Fizyka medy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Górnictwo i ge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Inżynieria naftowa i gazownic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Energety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52d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…</a:t>
            </a:r>
            <a:r>
              <a:rPr b="0" lang="pl-PL" sz="1600" spc="-1" strike="noStrike">
                <a:solidFill>
                  <a:srgbClr val="152d59"/>
                </a:solidFill>
                <a:latin typeface="Verdan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5080" y="1906560"/>
            <a:ext cx="34322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pl-PL" sz="1800" spc="-1" strike="noStrike" u="sng">
                <a:solidFill>
                  <a:srgbClr val="002060"/>
                </a:solidFill>
                <a:uFillTx/>
                <a:latin typeface="Verdana"/>
              </a:rPr>
              <a:t>Unikatowe kierunki studi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2"/>
          <p:cNvSpPr/>
          <p:nvPr/>
        </p:nvSpPr>
        <p:spPr>
          <a:xfrm>
            <a:off x="1092240" y="5821200"/>
            <a:ext cx="91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0033"/>
                </a:solidFill>
                <a:latin typeface="Verdana"/>
              </a:rPr>
              <a:t>Potrzeba otwartych zasobów edukacyjnych </a:t>
            </a:r>
            <a:br>
              <a:rPr sz="2800"/>
            </a:br>
            <a:r>
              <a:rPr b="1" lang="pl-PL" sz="2800" spc="-1" strike="noStrike">
                <a:solidFill>
                  <a:srgbClr val="990033"/>
                </a:solidFill>
                <a:latin typeface="Verdana"/>
              </a:rPr>
              <a:t>i wspomaganego przez IT nauc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779840" y="977760"/>
            <a:ext cx="4083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Uwarunkowania praw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49440" y="2554200"/>
            <a:ext cx="91501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Ustawa o szkolnictwie wyższym -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kształcenia z wykorzystaniem nowoczesnych technologii, e-learnin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AGH wewnętrzne uregulowania </a:t>
            </a:r>
            <a:br>
              <a:rPr sz="24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(zarządzenia Rektora 2012 i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blog.taern.com/wp-content/uploads/2013/02/paragraf.jpg"/>
          <p:cNvPicPr/>
          <p:nvPr/>
        </p:nvPicPr>
        <p:blipFill>
          <a:blip r:embed="rId1"/>
          <a:stretch/>
        </p:blipFill>
        <p:spPr>
          <a:xfrm>
            <a:off x="9085320" y="56134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rostokąt 2"/>
          <p:cNvSpPr/>
          <p:nvPr/>
        </p:nvSpPr>
        <p:spPr>
          <a:xfrm>
            <a:off x="371520" y="7018200"/>
            <a:ext cx="1800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826280" y="977760"/>
            <a:ext cx="412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e79"/>
                </a:solidFill>
                <a:latin typeface="Verdana"/>
              </a:rPr>
              <a:t>Strategia/dobre prakty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819000" y="2495520"/>
            <a:ext cx="7445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2060"/>
                </a:solidFill>
                <a:latin typeface="Verdana"/>
              </a:rPr>
              <a:t>OTWARTOŚ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2060"/>
                </a:solidFill>
                <a:latin typeface="Verdana"/>
              </a:rPr>
              <a:t>STRATEGIA e-learning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Tekstowe 1"/>
          <p:cNvSpPr/>
          <p:nvPr/>
        </p:nvSpPr>
        <p:spPr>
          <a:xfrm>
            <a:off x="190440" y="4044960"/>
            <a:ext cx="87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e-learning oparty o na Otwartych Zasobach (Moodle, RedMine, Mahara, OpenMeeting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Otwarte repozy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smallbusiness.chron.com/DM-Resize/photos.demandstudios.com/216/151/fotolia_1598697_XS.jpg?w=650&amp;h=406&amp;keep_ratio=1&amp;webp=1"/>
          <p:cNvPicPr/>
          <p:nvPr/>
        </p:nvPicPr>
        <p:blipFill>
          <a:blip r:embed="rId1"/>
          <a:stretch/>
        </p:blipFill>
        <p:spPr>
          <a:xfrm>
            <a:off x="8410680" y="5821200"/>
            <a:ext cx="230184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H_01</cp:lastModifiedBy>
  <dcterms:modified xsi:type="dcterms:W3CDTF">2020-04-26T09:19:34Z</dcterms:modified>
  <cp:revision>48</cp:revision>
  <dc:subject/>
  <dc:title>Prezentacja programu PowerPoint</dc:title>
</cp:coreProperties>
</file>